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4AC-D2FB-415D-AF4A-00E112D9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BFA-2057-4519-AC1A-A2DD196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E47-9BD2-4152-A3D1-DF38E2CE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C0E-03CB-4940-9C05-C67646EE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72A7-60A9-4689-B833-0A60DB98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A7F5-DF10-4563-96A1-AA97DB43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22B-DFDF-431F-9BE5-A992C2D9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A24E-7F72-4488-AD1C-912FA1B4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B3E8-12A9-4B23-BE13-AA27BAA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6915-4251-4CEC-A90F-EFC566D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FE2-7F25-415F-9C77-E33B05D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F25-4F57-441C-9537-96EED09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E61C-BB54-4B91-9F81-AB01107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8BC-A581-47B0-AAA8-FAA13FB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B98D-60D5-410D-BF30-04CEC54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D48D-7905-4731-9F05-32261812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7282-4F44-453B-A750-F5F11A3B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98D-22CD-4F44-A6FE-94EDC10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D0B-B763-4349-B794-49BCD7C3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3CB-F7F0-470A-9B22-0738667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DDC-8AC3-41D4-95A7-B6BE3CEA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72C-8ECC-4BD4-A53F-EE669B2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A4B-6972-4000-8A2D-907ED6CD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A4F-1D94-493F-8E8F-D4094D8F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D93E-2999-44FD-8D0C-08B240BFB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A24A-431A-4011-87F8-E429FCFF7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tructure of DN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782040" cy="566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9436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crip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la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506520"/>
            <a:ext cx="85341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Copying D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l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the process of DNA copying itsel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kes 6 -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done BEFORE mitosis or mei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76960" y="380880"/>
            <a:ext cx="3090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952880" y="5335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is unzipped by special enzymes called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NA Helicas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eak the H bonds between the str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546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eplication for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n either end of the DNA where the double helix is separ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in a circle, not one end to anoth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259000"/>
            <a:ext cx="54864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the DNA is partially unzipped, special enzymes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Polymer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ve along the exposed DNA making a complimentary strand for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29600" cy="43135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476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zymes stay bonded to the DNA until all of the DNA is cop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the copying is done, you have 2 identical strands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replication fork in DNA helix"/>
          <p:cNvPicPr/>
          <p:nvPr/>
        </p:nvPicPr>
        <p:blipFill>
          <a:blip r:embed="rId1"/>
          <a:stretch/>
        </p:blipFill>
        <p:spPr>
          <a:xfrm>
            <a:off x="5257800" y="304920"/>
            <a:ext cx="3232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ases are able to double check thei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few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 per billion nucleo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324160" cy="266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781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6960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’s instructions are carried out 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NA (ribonucleic ac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photocopier, copying ge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more H than DNA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of G, C, A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 (Uraci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STRAND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5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ransfer of instructions for making a protein from a gene to R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e in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copying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NA polymer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 gene’s promoter (AUG sequ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zip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s and cop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DNA using RNA base pairs (substitute U for 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he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gnal and the RNA is relea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114800"/>
            <a:ext cx="54784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ranslates RNA base sequence into the Amino acid sequence of a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e in Rib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s at the UAG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R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essenger) to carry the code from the nucleus to the rib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ransfer) to pick up the amino acid in the cytoplasm and carries it to the rib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RN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ibosomal) to bind mRNA and t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3360600"/>
            <a:ext cx="40384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782040" cy="5664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59436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crip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N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la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NA 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523880"/>
          <a:ext cx="8159760" cy="4818240"/>
        </p:xfrm>
        <a:graphic>
          <a:graphicData uri="http://schemas.openxmlformats.org/drawingml/2006/table">
            <a:tbl>
              <a:tblPr/>
              <a:tblGrid>
                <a:gridCol w="2133720"/>
                <a:gridCol w="60260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nucle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str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olved in protein synthe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NA / RNA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600200"/>
          <a:ext cx="8077320" cy="4448160"/>
        </p:xfrm>
        <a:graphic>
          <a:graphicData uri="http://schemas.openxmlformats.org/drawingml/2006/table">
            <a:tbl>
              <a:tblPr/>
              <a:tblGrid>
                <a:gridCol w="1752480"/>
                <a:gridCol w="3276720"/>
                <a:gridCol w="304812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nucleic Ac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nucleic Ac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ar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o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strands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es hereditary information and codes for protein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olved in protein synthesi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ntains the blueprints or codebook for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s information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in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 direct cellular activity and determin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cated in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eu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46748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up of units called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cleot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s of deoxyribose, phosphate groups, and N carrying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s a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nine (G), Cytosine (C), Adenine (A), Thymin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89600" y="1600200"/>
            <a:ext cx="3905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7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pe is called 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uble hel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is made of alternating phosphates and suga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is made of N carrying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40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7960" y="304920"/>
            <a:ext cx="4197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-paring ru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tructure and size of each of the Nitrogen bases only allows the following pai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airs with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 pairs with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s of one strand of DNA are complimentary to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3700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3124080" cy="3962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equence of Nucleotides is the code that controls the production of all protei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NA 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523880"/>
          <a:ext cx="8159760" cy="4818240"/>
        </p:xfrm>
        <a:graphic>
          <a:graphicData uri="http://schemas.openxmlformats.org/drawingml/2006/table">
            <a:tbl>
              <a:tblPr/>
              <a:tblGrid>
                <a:gridCol w="2133720"/>
                <a:gridCol w="60260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nucle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oxy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str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es hereditary information and codes for prote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37:07Z</dcterms:created>
  <dc:creator>Staff</dc:creator>
  <dc:description/>
  <dc:language>en-US</dc:language>
  <cp:lastModifiedBy>SGANSK</cp:lastModifiedBy>
  <dcterms:modified xsi:type="dcterms:W3CDTF">2008-12-03T20:56:27Z</dcterms:modified>
  <cp:revision>21</cp:revision>
  <dc:subject/>
  <dc:title>Structure of DNA</dc:title>
</cp:coreProperties>
</file>